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18480-D6E1-46C4-A79B-CCDADA3D2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788-AC42-49AF-8BCD-663E76D3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F64-9E58-440D-9309-3BE80A9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25B-DF8F-4BB1-87A5-F4A0EEF7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591-4B47-4294-90DE-EB7FDCF8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D44-7327-4799-8E3A-BCFBD79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1A9-780D-40F3-9E38-83852F6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962-55E9-4957-90C2-AB2E907E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3F6-89D6-48CB-BAF5-A1BF4BE8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BD2-48BF-4903-957A-F386FAA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0FF-921C-47B2-BB2B-E26B253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B7A-38EA-4D5E-96A7-EE7E21A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A3E-5021-436B-BE80-C3D0811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3C358-295F-4685-9DC6-ECC6A4A2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6160" y="109440"/>
            <a:ext cx="4883040" cy="6748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2688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57200"/>
            <a:ext cx="2286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83080" y="22860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12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514600"/>
            <a:ext cx="22860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life,  I have to remember to make things simpler and get back to God and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66038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y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86400" y="2286000"/>
            <a:ext cx="2743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life,  I have to remember to enjoy the things that make this life worth living:  My three kiddos-- Katelin, Kayley, and Dav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y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8840" y="914040"/>
            <a:ext cx="2514600" cy="94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        life,  I have to remember to take things one day at a time, especially in my 17 years of teaching m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756080" y="2286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y Hob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971440"/>
            <a:ext cx="297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StarSymbol"/>
                <a:ea typeface="StarSymbol"/>
              </a:rPr>
              <a:t>†</a:t>
            </a:r>
            <a:r>
              <a:rPr b="0" lang="en-US" sz="2400" spc="-1" strike="noStrike">
                <a:solidFill>
                  <a:srgbClr val="2323dc"/>
                </a:solidFill>
                <a:latin typeface="Bauhaus 93"/>
              </a:rPr>
              <a:t>With all I have going on in life,  I have to remember to enjoy the things that help me relieve my stress:  working out, playing indoor soccer and scrapbo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4114800"/>
            <a:ext cx="365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Laura Fa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3:17:34Z</dcterms:created>
  <dc:creator/>
  <dc:description/>
  <dc:language>en-US</dc:language>
  <cp:lastModifiedBy/>
  <cp:revision>1</cp:revision>
  <dc:subject/>
  <dc:title/>
</cp:coreProperties>
</file>